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755-04F7-426C-8CED-39578511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678-B188-4DA7-893C-6FB67C03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0340-B11D-4783-948E-F3D26514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2FE-CECF-44FB-9402-F785376A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8DD-4066-45AD-8479-7801CA7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8E4-EE04-459D-9E2F-907F3B5B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12C-86BD-4EAD-BDDA-7906079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B9A-A029-4C3B-9574-EDECBE5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12F-919E-411B-ADB1-71CB330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868-F633-4211-8C71-7C1F1C4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01A-F7E4-4AFD-AA5E-A80F843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9E8-7B6F-41AC-8991-C600CCB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E40-FCE1-4803-925D-BEEE2BB7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pe it wor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1:00Z</dcterms:created>
  <dc:creator>workstation</dc:creator>
  <dc:description/>
  <dc:language>en-US</dc:language>
  <cp:lastModifiedBy>workstation</cp:lastModifiedBy>
  <dcterms:modified xsi:type="dcterms:W3CDTF">2010-08-03T14:31:20Z</dcterms:modified>
  <cp:revision>1</cp:revision>
  <dc:subject/>
  <dc:title>Test</dc:title>
</cp:coreProperties>
</file>